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E38-C54F-447E-9B75-C122DABC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75E-3749-4D37-9412-96A7C132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FA3-CBE0-44A4-8971-3B73DE64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FD7-605A-4620-A551-DEB7861F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476-224C-4FE2-8D34-83D04718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EAD-B882-45E4-A187-C48B4618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168-099B-4CAC-A0BE-46066054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8D8-B1F0-49C0-9F2F-5B604C37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78D-5996-4A84-BA4D-10A3D00D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8F9-95F6-4737-869F-7F8BE1D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24B-ED2A-4F49-B298-6F8ADCD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18A-2B6C-467B-BD0E-AAEFA95F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9FD2-46C3-4BD1-AF5A-66465F596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9:15:38Z</dcterms:created>
  <dc:creator>abeason</dc:creator>
  <dc:description/>
  <dc:language>en-US</dc:language>
  <cp:lastModifiedBy>abeason</cp:lastModifiedBy>
  <dcterms:modified xsi:type="dcterms:W3CDTF">2008-12-10T19:15:41Z</dcterms:modified>
  <cp:revision>1</cp:revision>
  <dc:subject/>
  <dc:title>Slide 1</dc:title>
</cp:coreProperties>
</file>